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B7C-8243-4442-84BD-37D19B0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C28-1CE1-4B3B-A3BD-3502A14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344-F80A-4A46-8423-0DE146B3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A6-D40E-4919-8E57-F2E52925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92A7-395A-4E66-96EC-32203CAD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AF08-139D-4F0A-A4E2-18659B56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CD2-5A2C-4CC8-9A7F-0B7850D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40B-E807-49AC-88A4-A86F0628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C26-AF13-439E-A164-712949D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4C6-14CF-4953-A62A-D13CA2F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5AAA-F310-4C0F-807A-419E8AB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836-F896-4C5F-A5DD-7EFC027F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A63-22AA-4E5D-B0D4-88AE816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8EF-B93E-44C8-9423-3AE81BF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E0A-1088-486A-9C7C-81364260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6267-BA7D-4586-824C-8B85A1F9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9677-290B-43AB-B55F-CAC8CB75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A87-ACE6-4763-B935-DBCB0E3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6B5-2A2C-4365-84D7-62E654A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033-0157-497E-9C8B-DDB86D2D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A9E-05AB-4E24-B8E6-E9183E0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5B6-AB67-4122-B83B-7555F6C2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D69-4328-494A-984A-D10BF0B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4F1-11FE-419F-80C1-E4A4A77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0EB3-9A35-4508-950E-01CC2A8556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541-7262-4CE8-8287-DBCB892E23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3640" y="127080"/>
            <a:ext cx="7640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 välillä 2,0s….4,0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480" y="1905120"/>
          <a:ext cx="1658880" cy="4762440"/>
        </p:xfrm>
        <a:graphic>
          <a:graphicData uri="http://schemas.openxmlformats.org/drawingml/2006/table">
            <a:tbl>
              <a:tblPr/>
              <a:tblGrid>
                <a:gridCol w="785880"/>
                <a:gridCol w="873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9" name=""/>
          <p:cNvGrpSpPr/>
          <p:nvPr/>
        </p:nvGrpSpPr>
        <p:grpSpPr>
          <a:xfrm>
            <a:off x="3124080" y="2057400"/>
            <a:ext cx="4581720" cy="2978280"/>
            <a:chOff x="3124080" y="2057400"/>
            <a:chExt cx="4581720" cy="2978280"/>
          </a:xfrm>
        </p:grpSpPr>
        <p:graphicFrame>
          <p:nvGraphicFramePr>
            <p:cNvPr id="260" name=""/>
            <p:cNvGraphicFramePr/>
            <p:nvPr/>
          </p:nvGraphicFramePr>
          <p:xfrm>
            <a:off x="3124080" y="2057400"/>
            <a:ext cx="4581720" cy="2978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057400"/>
                      <a:ext cx="45817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4761000" y="3977280"/>
              <a:ext cx="945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706360" y="3103920"/>
              <a:ext cx="0" cy="8733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7160" y="391824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t=2,0 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52440" y="325404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s=5,3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362320" y="5334120"/>
          <a:ext cx="633564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334120"/>
                    <a:ext cx="6335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ä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Esim.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Leikkijuna liikkuu hitaasti pitkin suoraa rataosuutta. Kuvaaja esittää sen paikkaa ajan funktiona. Määritä keskinop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oko matkaosuud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ljän ensimmäisen sekunnin aik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älillä 4,0s…8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ikavälillä 8,0s…12,0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uvaa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278000" y="2336760"/>
          <a:ext cx="5914800" cy="31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336760"/>
                    <a:ext cx="59148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4360" y="1773360"/>
          <a:ext cx="30956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3095640" cy="216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684360" y="4005360"/>
          <a:ext cx="30956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05360"/>
                    <a:ext cx="3095640" cy="214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500720" y="1773360"/>
          <a:ext cx="3166920" cy="22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773360"/>
                    <a:ext cx="3166920" cy="221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500720" y="4076640"/>
          <a:ext cx="3166920" cy="208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076640"/>
                    <a:ext cx="3166920" cy="208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ä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elsingin ja Hämeenlinnan välimatka on 98km. Viikonlopun ruuhkajono etenee moottoritiellä keskinopeudella 105 km/h. Autoilija päättää ajaa suurinta sallittua nopeutta 120 km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) Kuinka paljon muuta liikennettä aikaisemmin hän on perillä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b) Kuinka kaukana jono on tällöin määränpäästä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c) Millä nopeudella on ajettava, jotta perille ehdittäisiin 10 minuuttia ennen ruuhkajonoa? Onko nopeus tällöin laillin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84360" y="1844640"/>
          <a:ext cx="355428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554280" cy="424836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356000" y="1844640"/>
          <a:ext cx="460872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844640"/>
                    <a:ext cx="4608720" cy="23605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788000" y="4419720"/>
          <a:ext cx="35290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419720"/>
                    <a:ext cx="3529080" cy="196344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ä 3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oni autoilija ajattelee, että kun ajaa menomatkalla nopeudella 60 km/h ja paluumatkalla nopeudella 100 km/h, niin keskinopeus koko matkalla on 80 km/h. Onko nä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todellinen keskinop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ssä tilanteessa keskinopeus saadaan nopeuksien keskiarvon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826920" y="1916280"/>
          <a:ext cx="5473800" cy="46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5473800" cy="46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 jatkuu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saadaan nopeuksien keskiarvona, jos tilanne olisi esimerkiksi sellainen, että ensin ajetaan tunti nopeudella 60 km/h ja sen perään toinen tunti nopeudella 100 km/h. Toimii siis aikayksikköä kohd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Hetkell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uinka määritetään muuttuvasta liikkeestä nopeus jollain tietyllä ajanhetkellä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Graafisesti derivoimalla: Piirretään käyrää sivuava tangentti tarkasteltavaan kohtaan ja lasketaan tangentin kulmakerro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oidaan määrittää myös laskemalla (derivaatan) avulla, mutta sitä ei käsitellä tässä kurssis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00400" y="3124080"/>
            <a:ext cx="14479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 kulkee saman mittaisilla aikaväleillä yhtä pitkät matka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on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ektorisuure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li sillä on suuruuden lisäksi suun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ksikkö SI – järjestelmässä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20040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016600" y="2968560"/>
            <a:ext cx="3352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v = keskinop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t = aika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33640" y="207720"/>
            <a:ext cx="76406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Hetkellinen nopeus hetkellä t=3,0 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80880" y="1905120"/>
          <a:ext cx="1287720" cy="4610160"/>
        </p:xfrm>
        <a:graphic>
          <a:graphicData uri="http://schemas.openxmlformats.org/drawingml/2006/table">
            <a:tbl>
              <a:tblPr/>
              <a:tblGrid>
                <a:gridCol w="609840"/>
                <a:gridCol w="677880"/>
              </a:tblGrid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t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a0000"/>
                          </a:solidFill>
                          <a:latin typeface="Verdana"/>
                          <a:ea typeface="Arial"/>
                        </a:rPr>
                        <a:t>s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2736000" y="4930920"/>
            <a:ext cx="53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iirretään tangentti (sivuaja) kohtaan t=3,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a lasketaan 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kulmakerr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28800" y="5791320"/>
          <a:ext cx="705636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791320"/>
                    <a:ext cx="70563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971800" y="1828800"/>
          <a:ext cx="5035680" cy="305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50356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 flipV="1">
            <a:off x="4425840" y="2127240"/>
            <a:ext cx="2006640" cy="196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4240" y="4095720"/>
            <a:ext cx="1870200" cy="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94600" y="2306520"/>
            <a:ext cx="0" cy="1789200"/>
          </a:xfrm>
          <a:prstGeom prst="line">
            <a:avLst/>
          </a:prstGeom>
          <a:ln cap="rnd" w="7632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7960" y="3200400"/>
            <a:ext cx="138240" cy="120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3657600"/>
            <a:ext cx="10666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=3,8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62000" y="3068640"/>
            <a:ext cx="1169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 = 10,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772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ääritä leikkijunan tapauksessa hetkellinen nopeus hetkellä t = 10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187280" y="3144960"/>
            <a:ext cx="6480000" cy="3712680"/>
            <a:chOff x="1187280" y="3144960"/>
            <a:chExt cx="6480000" cy="3712680"/>
          </a:xfrm>
        </p:grpSpPr>
        <p:graphicFrame>
          <p:nvGraphicFramePr>
            <p:cNvPr id="320" name=""/>
            <p:cNvGraphicFramePr/>
            <p:nvPr/>
          </p:nvGraphicFramePr>
          <p:xfrm>
            <a:off x="1187280" y="3144960"/>
            <a:ext cx="6480000" cy="371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144960"/>
                      <a:ext cx="6480000" cy="37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>
              <a:off x="6630120" y="3301200"/>
              <a:ext cx="932400" cy="28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96320" y="6021360"/>
              <a:ext cx="46620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atkais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835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uoralta hetkellisen nopeuden määrittäminen on helppoa, sillä suoran tangentti=suora it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332000" y="3357720"/>
          <a:ext cx="360036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357720"/>
                    <a:ext cx="360036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vat esittävät kappaleen liikettä, määritä kussakin tapauksessa kappaleen nope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00200" y="3048120"/>
          <a:ext cx="341964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419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5435640" y="35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38320" y="2398680"/>
          <a:ext cx="4219560" cy="32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398680"/>
                    <a:ext cx="42195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124680" y="28638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-0,5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38320" y="2187720"/>
          <a:ext cx="4356000" cy="32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187720"/>
                    <a:ext cx="435600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5607720" y="2565360"/>
            <a:ext cx="318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(t,v)-koordinnat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 saadaan suor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v=3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40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Silmänräpäyksen kesto on likimain 100 ms. Kuinka pitkän matkan kulkee tuona aikana val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19280" y="3040200"/>
          <a:ext cx="561672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40200"/>
                    <a:ext cx="561672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691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ääkiekkoilija lyö kiekon 14 metrin etäisyydeltä kohti maalia nopeudella 160 km/h. Kuinka paljon maalivahdille jää aikaa toim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258920" y="3429000"/>
          <a:ext cx="66261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626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ä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iihtyvyys kuvaa nopeuden muuto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kiihtyvyys = nopeuden keskimääräinen muutos jollain tietyllä aikavälill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371600" y="4495680"/>
                <a:ext cx="32004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952880" y="47242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nopeuden mu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kulunut a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ä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iihtyvyyden yksikkö on m/s</a:t>
            </a:r>
            <a:r>
              <a:rPr b="0" lang="fi-FI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yös kiihtyvyys on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ektorisu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osi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kasvaa (= kiihtyvy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egatiivinen etumerkki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nopeus pienenee (= hidastuvu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e on kiihtyvää myös silloin, kun nopeuden suuruus ei muutu, mutta suunta muuttuu! Keksitkö tilanteita, joissa tämä tulee ilm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Auton ajaminen kaarte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sainen 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Ukonilmalla salaman välähdyksen ja jyrähdyksen välinen aika oli 3s. Kuinka kaukana ukonilma oli havaintopaikasta? Äänen nopeus ilmassa on 34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     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, ratkaistaan tästä matka: s = t·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ijoitetaan t = 3s, v = 340 m/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3s · 340 m/s = 1020 m ≈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1,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362320" y="3276720"/>
                <a:ext cx="80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ä li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Auto kiihdyttää pysähdyksestä nopeuteen 100 km/h. Aikaa kului 11,8 s. Laske auton kiihtyvy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100 km/h : 3,6 ≈ 27,8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2,35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676520" y="3048120"/>
                <a:ext cx="4857480" cy="24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58480" y="228600"/>
            <a:ext cx="728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984240" y="4925880"/>
            <a:ext cx="6251400" cy="1651680"/>
            <a:chOff x="984240" y="4925880"/>
            <a:chExt cx="6251400" cy="1651680"/>
          </a:xfrm>
        </p:grpSpPr>
        <p:sp>
          <p:nvSpPr>
            <p:cNvPr id="360" name=""/>
            <p:cNvSpPr/>
            <p:nvPr/>
          </p:nvSpPr>
          <p:spPr>
            <a:xfrm>
              <a:off x="984240" y="4925880"/>
              <a:ext cx="60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: tasaisesti kiihtyvä liike, 1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4 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88560" y="527904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: tasainen liike, nopeus on 4 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84960" y="5632920"/>
              <a:ext cx="62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: tasaisesti hidastuva liike, 4 m/s </a:t>
              </a:r>
              <a:r>
                <a:rPr b="0" lang="fi-FI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 2 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9280" y="6057000"/>
              <a:ext cx="448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: tasainen liike, nopeus 2 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068480" y="1676520"/>
            <a:ext cx="4756680" cy="3339000"/>
            <a:chOff x="1068480" y="1676520"/>
            <a:chExt cx="4756680" cy="3339000"/>
          </a:xfrm>
        </p:grpSpPr>
        <p:sp>
          <p:nvSpPr>
            <p:cNvPr id="365" name=""/>
            <p:cNvSpPr/>
            <p:nvPr/>
          </p:nvSpPr>
          <p:spPr>
            <a:xfrm>
              <a:off x="3516480" y="443412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68480" y="351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68480" y="234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8480" y="31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126440" y="1676520"/>
              <a:ext cx="4698720" cy="2969280"/>
              <a:chOff x="1126440" y="1676520"/>
              <a:chExt cx="4698720" cy="2969280"/>
            </a:xfrm>
          </p:grpSpPr>
          <p:sp>
            <p:nvSpPr>
              <p:cNvPr id="370" name=""/>
              <p:cNvSpPr/>
              <p:nvPr/>
            </p:nvSpPr>
            <p:spPr>
              <a:xfrm>
                <a:off x="1495080" y="4065120"/>
                <a:ext cx="410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495080" y="2166120"/>
                <a:ext cx="0" cy="1898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26440" y="1676520"/>
                <a:ext cx="2605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nopeus </a:t>
                </a:r>
                <a:r>
                  <a:rPr b="1" lang="fi-FI" sz="3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 (m/s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495080" y="2534040"/>
                <a:ext cx="918720" cy="122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14160" y="2534040"/>
                <a:ext cx="980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94440" y="2534040"/>
                <a:ext cx="1225080" cy="85716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9520" y="3391200"/>
                <a:ext cx="91872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1416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94440" y="2534040"/>
                <a:ext cx="0" cy="153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1952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38600" y="3391200"/>
                <a:ext cx="0" cy="67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495080" y="2534040"/>
                <a:ext cx="91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80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2172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85600" y="411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66240" y="405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68600" y="2710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71280" y="2097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56840" y="25876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75920" y="2893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494720" y="339120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74120" y="4125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02680" y="457200"/>
            <a:ext cx="65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IIHTYVÄ JA HIDASTUVA LI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UVAAJA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4040" y="47260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a: kiihtyvyy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50680" y="59659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: kiihtyvyy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65840" y="3753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00400" y="4572000"/>
          <a:ext cx="4419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0"/>
                    <a:ext cx="4419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3200400" y="5359320"/>
          <a:ext cx="432432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359320"/>
                    <a:ext cx="43243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0" name=""/>
          <p:cNvGrpSpPr/>
          <p:nvPr/>
        </p:nvGrpSpPr>
        <p:grpSpPr>
          <a:xfrm>
            <a:off x="687240" y="1752480"/>
            <a:ext cx="3438720" cy="2742120"/>
            <a:chOff x="687240" y="1752480"/>
            <a:chExt cx="3438720" cy="2742120"/>
          </a:xfrm>
        </p:grpSpPr>
        <p:sp>
          <p:nvSpPr>
            <p:cNvPr id="401" name=""/>
            <p:cNvSpPr/>
            <p:nvPr/>
          </p:nvSpPr>
          <p:spPr>
            <a:xfrm>
              <a:off x="986040" y="3625920"/>
              <a:ext cx="287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986040" y="2136960"/>
              <a:ext cx="0" cy="148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01200" y="3913200"/>
              <a:ext cx="163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aika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5760" y="175248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nopeus </a:t>
              </a:r>
              <a:r>
                <a:rPr b="1" lang="fi-FI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 (m/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986040" y="2424960"/>
              <a:ext cx="642960" cy="960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29360" y="2424960"/>
              <a:ext cx="6861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15520" y="2424960"/>
              <a:ext cx="857520" cy="6724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73040" y="3097440"/>
              <a:ext cx="64296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2936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5520" y="2424960"/>
              <a:ext cx="0" cy="120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304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16360" y="3097440"/>
              <a:ext cx="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986040" y="24249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7240" y="319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227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3504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332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79800" y="36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67040" y="362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8080" y="2564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77040" y="208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9200" y="2467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3600" y="2706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985680" y="3097440"/>
              <a:ext cx="2187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7240" y="2905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03240" y="3674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Kiihtdytysautokisassa on dragsterilla saavutettu parhaimmillaan 3,72 sekunnissa nopeus 631,6 km/h. 1950-luvulla saavutettiin rakettimoottorilla varustetulla kelkalla 0,04 sekunnissa nopeus 116,6 km/h. Kummassa tapauksessa kiihtyvyys oli suurempi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3284640"/>
          <a:ext cx="388800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284640"/>
                    <a:ext cx="388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aalistavan kalkkarokäärmeen pää pystyy saavuttamaan kiihtyvyyden 50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käärmeen iskiessä kiinni saaliiseensa. Kuinka nopeasti auto saavuttaisi samalla kiihtyvyydellä nopeuden 50 km/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755640" y="3429000"/>
          <a:ext cx="8064360" cy="26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29000"/>
                    <a:ext cx="806436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heinen kuvaaja esittää kerrostalon hissin liikettä hissin kulkiessa yh.den kerrosvälin. Määritä hissin kiihtyvyys niinä aikaväleinä, jolloin hissin nopeus muuttu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5640" y="2997360"/>
          <a:ext cx="4896000" cy="35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48960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1693080" y="509580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56720" y="401652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6160" y="4159080"/>
            <a:ext cx="4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35840" y="3079800"/>
            <a:ext cx="2396880" cy="2439720"/>
          </a:xfrm>
          <a:prstGeom prst="rect">
            <a:avLst/>
          </a:prstGeom>
          <a:noFill/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1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0,50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</a:t>
            </a:r>
            <a:r>
              <a:rPr b="0" lang="fi-FI" sz="2400" spc="-1" strike="noStrike" baseline="-25000">
                <a:solidFill>
                  <a:srgbClr val="9a0000"/>
                </a:solidFill>
                <a:latin typeface="Verdana"/>
              </a:rPr>
              <a:t>3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=-1m/s</a:t>
            </a:r>
            <a:r>
              <a:rPr b="0" lang="fi-FI" sz="2400" spc="-1" strike="noStrike" baseline="30000">
                <a:solidFill>
                  <a:srgbClr val="9a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utouskiihtyvy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aapallon pinnalla putoavan kappaleen nopeus kasvaa joka sekunti noin 10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utouskiihtyvyys g on siis noin 10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uom! Ei riipu kappaleen massasta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arkemmi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Tiili lähtee putoamaan tornitalon huipulta ja osuu maahan 5,0 s:n kuluttua. Millä nopeudella tiili osuu maaha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 = 5s · 9,8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≈ 49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49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00200" y="3505320"/>
            <a:ext cx="2286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iihtyvä liike ja mat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voidaan laskea tasaisesti kiihtyvän kappaleen tiettynä aikana kulkema matk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ava perustellaan lähiopetuksess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905120" y="3581280"/>
                <a:ext cx="1809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572000" y="358128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 = m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 = kiihtyvy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a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59280" indent="-359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ivi pudotetaan 23 m korkean kerrostalon katolta. Laske putoamiseen kuluva aika. Millä nopeudella kivi iskeytyy maah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Rat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utoamisaika 2,2 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suu maahan nopeudella 22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971800" y="2666880"/>
                <a:ext cx="465444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josta voidaan ratkaista 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s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rad>
                        <m:r>
                          <m:t xml:space="preserve">≈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josta saadaan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v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,81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,2</m:t>
                        </m:r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Auto kiihdyttää 9,8 sekuntia kiihtyvyydellä 2,4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. Auton alkunopeus on 20 km/h. Laske auton loppunopeus ja kiihdytyksen aikana kulkema mat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Δv = a · 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–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a·Δ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alku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+a·Δt =20:3,6 m/s + 2,4 m/s</a:t>
            </a:r>
            <a:r>
              <a:rPr b="0" lang="fi-FI" sz="18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·9,8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loppu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= 29,07555... m/s ≈ 29 m/s ≈ 105 km/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loppunopeus 105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ljettu matka 115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590920" y="4724280"/>
                <a:ext cx="4724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,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9,8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ö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uinka muutetaan km/h </a:t>
            </a:r>
            <a:r>
              <a:rPr b="0" lang="fi-FI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/s ja päinvasto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m/h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/s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jae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errotaan 3,6: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erustellaan näistä ensimmäin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4724280"/>
                <a:ext cx="5105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liikkeen muutoksen aiheutta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ikkeen muutokset selitetään fysiikassa kappaleiden välisillä vuorovaikutuksi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Voima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uvaa tämän vuorovaikutuksen suuruut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ewtonin I laki: Kappale jatkaa liikettään suoraviivaisesti muuttumattomalla nopeudella tai pysyy levossa, jos siihen vaikuttavien voimien summa = 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 on vektorisu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ektorin pituus ilmoittaa voiman suuruuden, nuolen kärki voiman suunn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Voimakuvio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: Tutkittava kappale irroitetaan ympäristöstään. Ainoastaan tutkittavaan kappaleeseen vaikuttavat voimat piirretään näkyvi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806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oimakuv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143000" y="3200400"/>
            <a:ext cx="3048120" cy="2819520"/>
            <a:chOff x="1143000" y="3200400"/>
            <a:chExt cx="3048120" cy="2819520"/>
          </a:xfrm>
        </p:grpSpPr>
        <p:sp>
          <p:nvSpPr>
            <p:cNvPr id="462" name=""/>
            <p:cNvSpPr/>
            <p:nvPr/>
          </p:nvSpPr>
          <p:spPr>
            <a:xfrm>
              <a:off x="1143000" y="4114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9880" y="41148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57400" y="3276720"/>
              <a:ext cx="1219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809880" y="3962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28960" y="3797280"/>
              <a:ext cx="304920" cy="30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7672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1480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029200"/>
              <a:ext cx="152640" cy="30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438280" y="35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590920" y="4114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3828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41600" y="3720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82280" y="41212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6688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75212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0760" y="3435480"/>
              <a:ext cx="40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fi-FI" sz="2000" spc="-1" strike="noStrike" baseline="-25000">
                  <a:solidFill>
                    <a:srgbClr val="000000"/>
                  </a:solidFill>
                  <a:latin typeface="Verdana"/>
                </a:rPr>
                <a:t>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49600" y="344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76720" y="3581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32004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81280" y="320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4959720" y="1981080"/>
            <a:ext cx="3318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Verdana"/>
              </a:rPr>
              <a:t>µ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= Kitkavo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Voima, jolla köy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etää laatikk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= Alustan tukivo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G = Painovo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4191120"/>
            <a:ext cx="3505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Nyt N = -G, joten kappale ei liiku ylös- eikä alaspä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ja F ovat vastakkaissuuntaiset, mutta F on vektoria F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µ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pidempi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laatikko liikkuu köyden suunt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600880" y="423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97760" y="424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05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Dynamiikan peruslak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Newtonin II laki eli Dynamiikan peruslaki: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Kappaleeseen vaikuttava ulkoinen voima F antaa kappaleelle, jonka massa on m, kiihtyvyyden 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 = m </a:t>
            </a: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· 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oiman yksikkö: [F] = [m]·[a] = kg·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= N (newt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339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67320" y="398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78200" y="3924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Auton kiihtyvyys on 2,4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ja massa 1500kg. Kuinka suuri kokonaisvoima autoon vaikutta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=1500k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·2,4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3600N=3,6k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7,2 N – 3,2 N = 4,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2,7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1,5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7,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3,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295280" y="4648320"/>
                <a:ext cx="5639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,0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1,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,7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 kappaleeseen vaikuttavan kokonaisvoiman suuruus ja kappaleen saama kiihtyvy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 = 8,8 N+ 6,9 – 6,1 N = 9,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,1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2819520"/>
            <a:ext cx="1905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m=3,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76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38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812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8,8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1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1371600" y="4648320"/>
                <a:ext cx="5554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jost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6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3,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 flipH="1">
            <a:off x="327636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33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6,9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yörän ja pyöräilijän yhteenlaskettu massa oli 105kg. Kuinka suuri pyörään vaikuttavan kokonaisvoiman on oltava, jotta se antaisi pyörälle kiihtyvyyden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F = m · a = 105 kg · 3,2 m/s</a:t>
            </a:r>
            <a:r>
              <a:rPr b="0" lang="fi-FI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=336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≈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340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340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743200" y="5410080"/>
            <a:ext cx="22860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Painovo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ppaleet putoavat maahan, koska maa vetää niitä puoleen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yhjiössä putoavaan kappaleeseen ei vaikuttaa ainoastaan maan vetovoima eli kappaleeseen vaikuttava painovoima = kappaleen paino: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G = m ·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aske oma painos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G=mg=50k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·9,81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490,5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uom!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ssa ≠ Paino, vaikka arkikielessä ne usein sotketaankin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kömuunnoks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90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Perustelu muutokselle m/s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m/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Muunnettaessa isommasta yksiköstä pienempää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jae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Pienemmästä isompaan </a:t>
            </a:r>
            <a:r>
              <a:rPr b="0" lang="fi-FI" sz="2800" spc="-1" strike="noStrike">
                <a:solidFill>
                  <a:srgbClr val="9a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 kerrota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332000" y="2708280"/>
          <a:ext cx="619272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192720" cy="1446120"/>
                  </a:xfrm>
                  <a:prstGeom prst="rect">
                    <a:avLst/>
                  </a:prstGeom>
                  <a:ln w="2844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iirrä suoraan maata kohti putoavaan palloon vaikuttavat voimat ja kokonaisvoima, k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ta ei oteta huomio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lmanvastus on merkittäv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aske pallon kiihtyvyys, kun pallon massa on 5,6kg ja ilmanvastus on 1/10 pallon painos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3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at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Kuva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400" spc="-1" strike="noStrike">
                <a:solidFill>
                  <a:srgbClr val="9a0000"/>
                </a:solidFill>
                <a:latin typeface="Verdana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=m ·g = 5,6 kg ·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1/10 · 54,936 N = 5,4936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G – 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54,936 N - 5,4936 N = 49,4424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= m · a, j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8,8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371600" y="5181480"/>
                <a:ext cx="4206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424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5,6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,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2666880" y="2133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40280" y="2666880"/>
            <a:ext cx="102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=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008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68480" y="25210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48520" y="251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62960" y="24192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67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3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53200" y="21906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768080" y="2647800"/>
            <a:ext cx="31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47960" y="2114640"/>
            <a:ext cx="48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Verdana"/>
              </a:rPr>
              <a:t>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388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059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uinka suuri on narun tukivoima, kun kattoon kiinnitetyssä narussa riippuu kynttiläkruunu, jonka massa on 5,6 k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039680" y="3200400"/>
            <a:ext cx="3227400" cy="2438280"/>
            <a:chOff x="1039680" y="3200400"/>
            <a:chExt cx="3227400" cy="2438280"/>
          </a:xfrm>
        </p:grpSpPr>
        <p:sp>
          <p:nvSpPr>
            <p:cNvPr id="558" name=""/>
            <p:cNvSpPr/>
            <p:nvPr/>
          </p:nvSpPr>
          <p:spPr>
            <a:xfrm>
              <a:off x="1143000" y="33526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909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39625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90920" y="4114800"/>
              <a:ext cx="1485720" cy="622440"/>
            </a:xfrm>
            <a:custGeom>
              <a:avLst/>
              <a:gdLst/>
              <a:ahLst/>
              <a:rect l="l" t="t" r="r" b="b"/>
              <a:pathLst>
                <a:path w="936" h="392">
                  <a:moveTo>
                    <a:pt x="0" y="384"/>
                  </a:moveTo>
                  <a:cubicBezTo>
                    <a:pt x="168" y="388"/>
                    <a:pt x="336" y="392"/>
                    <a:pt x="480" y="336"/>
                  </a:cubicBezTo>
                  <a:cubicBezTo>
                    <a:pt x="624" y="280"/>
                    <a:pt x="792" y="96"/>
                    <a:pt x="864" y="48"/>
                  </a:cubicBezTo>
                  <a:cubicBezTo>
                    <a:pt x="936" y="0"/>
                    <a:pt x="924" y="24"/>
                    <a:pt x="912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143000" y="4114800"/>
              <a:ext cx="1486080" cy="622440"/>
            </a:xfrm>
            <a:custGeom>
              <a:avLst/>
              <a:gdLst/>
              <a:ahLst/>
              <a:rect l="l" t="t" r="r" b="b"/>
              <a:pathLst>
                <a:path w="936" h="392">
                  <a:moveTo>
                    <a:pt x="0" y="384"/>
                  </a:moveTo>
                  <a:cubicBezTo>
                    <a:pt x="168" y="388"/>
                    <a:pt x="336" y="392"/>
                    <a:pt x="480" y="336"/>
                  </a:cubicBezTo>
                  <a:cubicBezTo>
                    <a:pt x="624" y="280"/>
                    <a:pt x="792" y="96"/>
                    <a:pt x="864" y="48"/>
                  </a:cubicBezTo>
                  <a:cubicBezTo>
                    <a:pt x="936" y="0"/>
                    <a:pt x="924" y="24"/>
                    <a:pt x="912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668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248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44197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86200" y="3962520"/>
              <a:ext cx="228600" cy="228600"/>
            </a:xfrm>
            <a:prstGeom prst="flowChartOffpage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37339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5268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28800" y="419112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62520" y="3733920"/>
              <a:ext cx="75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39680" y="3517920"/>
              <a:ext cx="304920" cy="2890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27280" y="3962520"/>
              <a:ext cx="304560" cy="2887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49720" y="3962520"/>
              <a:ext cx="304560" cy="2887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36880" y="3505320"/>
              <a:ext cx="304920" cy="2887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218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4475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6002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7524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9047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0574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09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361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514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666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819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718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1240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3526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5049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65760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809880" y="32004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962160" y="3200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89548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4960" y="35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590920" y="4876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34920" y="49086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9252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4648320" y="3276720"/>
            <a:ext cx="41907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Koska kruunu on levossa: T + G = 0, joten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 = G =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= 5,6 kg · 9,81 m/s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≈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55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5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ääkiekko, jonka massa on 0,15 kg, tulee kohti hyökkääjää nopeudella 12 m/s. Hyökkääjä laukaisee kiekon suoraan takaisin nopeudella 21 m/s. Maila koskettaa kiekkoa 0,040 s ajan. Kuinka suurella keskimääräisellä voimalla maila osuu kiekko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84360" y="3645000"/>
          <a:ext cx="784836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7848360" cy="281448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ävi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Autoilija ajaa nopeudella 60 km/h ja kuule yllättäen autonsa moottorista epäilyttävää kolinaa. Hän yrittää pysäyttää autonsa mahdollisimman nopeasti jarruttaen 7,8 kN:n voimalla. Auton massa on 1300 kg. Kuinka pian auto pysähtyy? Kuinka pitkä on jarrutusmatk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39640" y="3716280"/>
          <a:ext cx="860436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6280"/>
                    <a:ext cx="8604360" cy="2579760"/>
                  </a:xfrm>
                  <a:prstGeom prst="rect">
                    <a:avLst/>
                  </a:prstGeom>
                  <a:ln w="93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Ulkona tuulee nopeudella 8,0 m/s. Ilmoita tulos nopeuden yksikkönä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8 m/s · 3,6 = 28,8 km/h ≈ 29 km/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ntilooppi pystyy juoksemaan nopeudella 90 km/h. Ilmoita antiloopin nopeus m/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90 km/h : 3,6 = 25 m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25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69,4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40 km/h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50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500 m/s = 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5400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340 m/s =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224 km/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737160" y="457200"/>
            <a:ext cx="49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TASAINEN LI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OORDINAATISTO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40320" y="1716120"/>
            <a:ext cx="65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pysyy koko ajan sa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0080" y="243828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matka 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6440" y="2438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opeus v (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5486400"/>
          <a:ext cx="59036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486400"/>
                    <a:ext cx="5903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"/>
          <p:cNvGrpSpPr/>
          <p:nvPr/>
        </p:nvGrpSpPr>
        <p:grpSpPr>
          <a:xfrm>
            <a:off x="1219320" y="2971800"/>
            <a:ext cx="7467480" cy="2450880"/>
            <a:chOff x="1219320" y="2971800"/>
            <a:chExt cx="7467480" cy="2450880"/>
          </a:xfrm>
        </p:grpSpPr>
        <p:sp>
          <p:nvSpPr>
            <p:cNvPr id="237" name=""/>
            <p:cNvSpPr/>
            <p:nvPr/>
          </p:nvSpPr>
          <p:spPr>
            <a:xfrm>
              <a:off x="121932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932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3600" y="2971800"/>
              <a:ext cx="0" cy="182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480024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464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4360" y="49021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Times New Roman"/>
                </a:rPr>
                <a:t>aika t (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219320" y="3580920"/>
              <a:ext cx="2590920" cy="12186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440" y="4419360"/>
              <a:ext cx="16761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657600" y="3657240"/>
              <a:ext cx="0" cy="7617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9520" y="3647880"/>
              <a:ext cx="9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10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0080" y="4267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800" spc="-1" strike="noStrike">
                  <a:solidFill>
                    <a:srgbClr val="000000"/>
                  </a:solidFill>
                  <a:latin typeface="Times New Roman"/>
                </a:rPr>
                <a:t>4,0 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3581280"/>
              <a:ext cx="190512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9560" y="320004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36800" y="4335120"/>
              <a:ext cx="716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65520" y="3543120"/>
              <a:ext cx="716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90920" y="4724280"/>
            <a:ext cx="304776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eskinope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ike on harvemmin tasa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opeus vaihtel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eskinopeus voidaan määrittää (t,s)-koordinaatistosta katsomalla tietyllä aika välillä kuljettu mat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819520" y="4724280"/>
                <a:ext cx="251460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084720" y="486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a0000"/>
                </a:solidFill>
                <a:latin typeface="Verdana"/>
              </a:rPr>
              <a:t>Δ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= mu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13:21Z</dcterms:created>
  <dc:creator>Anu</dc:creator>
  <dc:description/>
  <dc:language>en-US</dc:language>
  <cp:lastModifiedBy>tyotila4</cp:lastModifiedBy>
  <dcterms:modified xsi:type="dcterms:W3CDTF">2008-04-03T06:49:30Z</dcterms:modified>
  <cp:revision>56</cp:revision>
  <dc:subject/>
  <dc:title>Liike</dc:title>
</cp:coreProperties>
</file>