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430-CC7A-470C-9DA2-866A0570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6FA-5F4E-419F-8024-53685CC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984-C9E8-4863-9D2A-3E2B0D40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B6A-43F9-4A55-9B4C-F13D3E47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CC4-0B5F-4C08-BAD3-88774DFC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3B77-1F60-46AE-8ED6-ED66E54E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75C-CD85-4791-B4E2-2DB557D7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F219-924D-4802-A36B-927BA1B3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555F-EE8B-498A-9F06-769CDE7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EB90-0144-4571-A96B-19B8C0F1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5EE4-D326-4432-91F9-391F8119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A7D-ACF6-4BC2-92C9-C74CE143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BA44-3F09-4FB9-9B44-6FE1C76E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2BAA-E34A-4D64-8C8C-7037672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312B-9DD5-4EAE-BFFB-5675A677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0AE8-5FED-4B28-8909-6C00C264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84D6-F5E7-4373-AFEB-517BC922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A1C-AD6A-46D6-ABDB-AFFE44A1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ECF-BC72-472F-B593-DEB907DF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5D9-77F5-4D86-8B76-FD7F061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E42-B09A-49F4-977D-FF2F53BA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63C-455B-47E2-8043-630E0D5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84E-94CE-4869-AC9F-459B62A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5D2-3F2A-41EA-BC1B-BDFC1AC2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4DE-77C5-45DF-98AA-94313D640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A449-F7F3-4249-A246-216FD195C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3640" y="129240"/>
            <a:ext cx="7640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eskinopeus 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lill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2,0s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…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.4,0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9480" y="1905120"/>
          <a:ext cx="1658880" cy="4762440"/>
        </p:xfrm>
        <a:graphic>
          <a:graphicData uri="http://schemas.openxmlformats.org/drawingml/2006/table">
            <a:tbl>
              <a:tblPr/>
              <a:tblGrid>
                <a:gridCol w="785880"/>
                <a:gridCol w="873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t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9" name="Group 34"/>
          <p:cNvGrpSpPr/>
          <p:nvPr/>
        </p:nvGrpSpPr>
        <p:grpSpPr>
          <a:xfrm>
            <a:off x="3124080" y="2057400"/>
            <a:ext cx="4581720" cy="2978280"/>
            <a:chOff x="3124080" y="2057400"/>
            <a:chExt cx="4581720" cy="2978280"/>
          </a:xfrm>
        </p:grpSpPr>
        <p:graphicFrame>
          <p:nvGraphicFramePr>
            <p:cNvPr id="260" name="Object 35"/>
            <p:cNvGraphicFramePr/>
            <p:nvPr/>
          </p:nvGraphicFramePr>
          <p:xfrm>
            <a:off x="3124080" y="2057400"/>
            <a:ext cx="4581720" cy="2978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1" name="Object 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057400"/>
                      <a:ext cx="45817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Line 36"/>
            <p:cNvSpPr/>
            <p:nvPr/>
          </p:nvSpPr>
          <p:spPr>
            <a:xfrm>
              <a:off x="4761000" y="3977280"/>
              <a:ext cx="945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37"/>
            <p:cNvSpPr/>
            <p:nvPr/>
          </p:nvSpPr>
          <p:spPr>
            <a:xfrm flipV="1">
              <a:off x="5706360" y="3103920"/>
              <a:ext cx="0" cy="8733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Text Box 38"/>
            <p:cNvSpPr/>
            <p:nvPr/>
          </p:nvSpPr>
          <p:spPr>
            <a:xfrm>
              <a:off x="4637160" y="391824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t=2,0 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Text Box 39"/>
            <p:cNvSpPr/>
            <p:nvPr/>
          </p:nvSpPr>
          <p:spPr>
            <a:xfrm>
              <a:off x="5752440" y="325404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s=5,3 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66" name="Object 40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41"/>
          <p:cNvGraphicFramePr/>
          <p:nvPr/>
        </p:nvGraphicFramePr>
        <p:xfrm>
          <a:off x="2362320" y="5334120"/>
          <a:ext cx="633564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334120"/>
                    <a:ext cx="6335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Esim.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Leikkijuna liikkuu hitaasti pitkin suoraa rataosuutta. Kuvaaja es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sen paikkaa ajan funktiona.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eskinop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oko matkaosuud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elj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ensim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sen sekunnin aik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ika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4,0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8,0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ika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8,0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12,0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uvaa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1278000" y="2336760"/>
          <a:ext cx="5914800" cy="31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336760"/>
                    <a:ext cx="59148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684360" y="1773360"/>
          <a:ext cx="30956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3095640" cy="2166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684360" y="4005360"/>
          <a:ext cx="30956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05360"/>
                    <a:ext cx="3095640" cy="2146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4500720" y="1773360"/>
          <a:ext cx="3166920" cy="22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773360"/>
                    <a:ext cx="3166920" cy="221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2" name="Object 10"/>
          <p:cNvGraphicFramePr/>
          <p:nvPr/>
        </p:nvGraphicFramePr>
        <p:xfrm>
          <a:off x="4500720" y="4076640"/>
          <a:ext cx="3166920" cy="208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076640"/>
                    <a:ext cx="3166920" cy="208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772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elsingin ja H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eenlinnan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imatka on 98km. Viikonlopun ruuhkajono etenee moottoritie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eskinopeudella 105 km/h. Autoilija p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ajaa suurinta sallittua nopeutta 120 km/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) Kuinka paljon muuta liikenne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aikaisemmin h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on peri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b) Kuinka kaukana jono on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n m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p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c) Mi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della on ajettava, jotta perille ehdi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siin 10 minuuttia ennen ruuhkajonoa? Onko nopeus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n laillin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7" name="Object 3"/>
          <p:cNvGraphicFramePr/>
          <p:nvPr/>
        </p:nvGraphicFramePr>
        <p:xfrm>
          <a:off x="684360" y="1844640"/>
          <a:ext cx="355428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554280" cy="424836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Object 5"/>
          <p:cNvGraphicFramePr/>
          <p:nvPr/>
        </p:nvGraphicFramePr>
        <p:xfrm>
          <a:off x="4356000" y="1844640"/>
          <a:ext cx="4608720" cy="23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844640"/>
                    <a:ext cx="4608720" cy="236052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Object 7"/>
          <p:cNvGraphicFramePr/>
          <p:nvPr/>
        </p:nvGraphicFramePr>
        <p:xfrm>
          <a:off x="4788000" y="4419720"/>
          <a:ext cx="35290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419720"/>
                    <a:ext cx="3529080" cy="196344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3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oni autoilija ajattelee, e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un ajaa menomatkalla nopeudella 60 km/h ja paluumatkalla nopeudella 100 km/h, niin keskinopeus koko matkalla on 80 km/h. Onko 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aske todellinen keskinope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ilanteessa keskinopeus saadaan nopeuksien keskiarvon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826920" y="1916280"/>
          <a:ext cx="5473800" cy="46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5473800" cy="46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 jatkuu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saadaan nopeuksien keskiarvona, jos tilanne olisi esimerkiksi sellainen, e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nsin ajetaan tunti nopeudella 60 km/h ja sen per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toinen tunti nopeudella 100 km/h. Toimii siis aika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ohd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Hetkellinen 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uinka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e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muuttuvasta liikkees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nopeus jollain tiety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ajanhetke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Graafisesti derivoimalla: Piirre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yr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sivuava tangentti tarkasteltavaan kohtaan ja lasketaan tangentin kulmakerro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oidaan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 laskemalla (derivaatan) avulla, mutta si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ei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ite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urssis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00400" y="3124080"/>
            <a:ext cx="14479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sainen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ppale kulkee saman mittaisilla aika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e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yh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it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 matka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on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vektorisuure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li s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on suuruuden li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si suun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SI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j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jestel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/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3505320" y="3200400"/>
                <a:ext cx="80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Text Box 6"/>
          <p:cNvSpPr/>
          <p:nvPr/>
        </p:nvSpPr>
        <p:spPr>
          <a:xfrm>
            <a:off x="5016600" y="2968560"/>
            <a:ext cx="3352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v = keskinope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s = mat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t = aika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33640" y="207720"/>
            <a:ext cx="7640640" cy="13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Hetkellinen nopeus hetkell</a:t>
            </a:r>
            <a:r>
              <a:rPr b="0" lang="fi-FI" sz="40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 t=3,0 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80880" y="1905120"/>
          <a:ext cx="1287720" cy="4610160"/>
        </p:xfrm>
        <a:graphic>
          <a:graphicData uri="http://schemas.openxmlformats.org/drawingml/2006/table">
            <a:tbl>
              <a:tblPr/>
              <a:tblGrid>
                <a:gridCol w="609840"/>
                <a:gridCol w="677880"/>
              </a:tblGrid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t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s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Object 3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35"/>
          <p:cNvSpPr/>
          <p:nvPr/>
        </p:nvSpPr>
        <p:spPr>
          <a:xfrm>
            <a:off x="2736000" y="4930920"/>
            <a:ext cx="53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iirretään tangentti (sivuaja) kohtaan t=3,0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a lasketaan 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kulmakerro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7" name="Object 36"/>
          <p:cNvGraphicFramePr/>
          <p:nvPr/>
        </p:nvGraphicFramePr>
        <p:xfrm>
          <a:off x="1828800" y="5791320"/>
          <a:ext cx="705636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791320"/>
                    <a:ext cx="70563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7"/>
          <p:cNvGraphicFramePr/>
          <p:nvPr/>
        </p:nvGraphicFramePr>
        <p:xfrm>
          <a:off x="2971800" y="1828800"/>
          <a:ext cx="5035680" cy="305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0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503568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38"/>
          <p:cNvSpPr/>
          <p:nvPr/>
        </p:nvSpPr>
        <p:spPr>
          <a:xfrm flipV="1">
            <a:off x="4425840" y="2127240"/>
            <a:ext cx="2006640" cy="196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4494240" y="4095720"/>
            <a:ext cx="1870200" cy="0"/>
          </a:xfrm>
          <a:prstGeom prst="line">
            <a:avLst/>
          </a:prstGeom>
          <a:ln cap="rnd" w="7632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40"/>
          <p:cNvSpPr/>
          <p:nvPr/>
        </p:nvSpPr>
        <p:spPr>
          <a:xfrm flipV="1">
            <a:off x="6294600" y="2306520"/>
            <a:ext cx="0" cy="1789200"/>
          </a:xfrm>
          <a:prstGeom prst="line">
            <a:avLst/>
          </a:prstGeom>
          <a:ln cap="rnd" w="7632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Oval 41"/>
          <p:cNvSpPr/>
          <p:nvPr/>
        </p:nvSpPr>
        <p:spPr>
          <a:xfrm>
            <a:off x="5187960" y="3200400"/>
            <a:ext cx="138240" cy="120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5105520" y="3657600"/>
            <a:ext cx="10666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=3,8 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6462000" y="3068640"/>
            <a:ext cx="1169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 = 10,8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772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leikkijunan tapauksessa hetkellinen nopeus hetke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 = 10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187280" y="3144960"/>
            <a:ext cx="6480000" cy="3712680"/>
            <a:chOff x="1187280" y="3144960"/>
            <a:chExt cx="6480000" cy="3712680"/>
          </a:xfrm>
        </p:grpSpPr>
        <p:graphicFrame>
          <p:nvGraphicFramePr>
            <p:cNvPr id="320" name="Object 5"/>
            <p:cNvGraphicFramePr/>
            <p:nvPr/>
          </p:nvGraphicFramePr>
          <p:xfrm>
            <a:off x="1187280" y="3144960"/>
            <a:ext cx="6480000" cy="371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2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3144960"/>
                      <a:ext cx="6480000" cy="37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Rectangle 6"/>
            <p:cNvSpPr/>
            <p:nvPr/>
          </p:nvSpPr>
          <p:spPr>
            <a:xfrm>
              <a:off x="6630120" y="3301200"/>
              <a:ext cx="932400" cy="28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7096320" y="6021360"/>
              <a:ext cx="46620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835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uoralta hetkellisen nopeuden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nen on helppoa, s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suoran tangentti=suora it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332000" y="3357720"/>
          <a:ext cx="360036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357720"/>
                    <a:ext cx="360036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uvat esi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kappaleen liike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ussakin tapauksessa kappaleen nope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1600200" y="3048120"/>
          <a:ext cx="341964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419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5"/>
          <p:cNvSpPr/>
          <p:nvPr/>
        </p:nvSpPr>
        <p:spPr>
          <a:xfrm>
            <a:off x="5435640" y="357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3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1138320" y="2398680"/>
          <a:ext cx="4219560" cy="32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398680"/>
                    <a:ext cx="42195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6124680" y="28638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-0,5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1138320" y="2187720"/>
          <a:ext cx="4356000" cy="32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187720"/>
                    <a:ext cx="435600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6"/>
          <p:cNvSpPr/>
          <p:nvPr/>
        </p:nvSpPr>
        <p:spPr>
          <a:xfrm>
            <a:off x="5607720" y="2565360"/>
            <a:ext cx="318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(t,v)-koordinnatis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9a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 saadaan suora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3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40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Sil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yksen kesto on likimain 100 ms. Kuinka pit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n matkan kulkee tuona aikana val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1619280" y="3040200"/>
          <a:ext cx="561672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40200"/>
                    <a:ext cx="561672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691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ekkoilija ly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kiekon 14 metrin e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isyydel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kohti maalia nopeudella 160 km/h. Kuinka paljon maalivahdille 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ikaa toim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1258920" y="3429000"/>
          <a:ext cx="66261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6261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iihtyvyys kuvaa nopeuden muuto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eskikiihtyvyys = nopeuden keski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en muutos jollain tiety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aika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1371600" y="4495680"/>
                <a:ext cx="32004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Text Box 5"/>
          <p:cNvSpPr/>
          <p:nvPr/>
        </p:nvSpPr>
        <p:spPr>
          <a:xfrm>
            <a:off x="4952880" y="47242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 = nopeuden muu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kulunut a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iihtyvyyden yksik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on m/s</a:t>
            </a:r>
            <a:r>
              <a:rPr b="0" lang="fi-FI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 kiihtyvyys on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vektorisu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ositiivinen etumerkki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s kasvaa (= kiihtyvy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egatiivinen etumerkki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s pienenee (= hidastuvu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ike on kiihty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 silloin, kun nopeuden suuruus ei muutu, mutta suunta muuttuu! Keksit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tilanteita, joissa 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tulee ilm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Auton ajaminen kaartee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sainen 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Ukonilmalla salaman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dyksen ja jy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dyksen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inen aika oli 3s. Kuinka kaukana ukonilma oli havaintopaikasta?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en nopeus ilmassa on 340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          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, ratkaistaan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matka: s =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ijoitetaan t = 3s, v = 340 m/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 = 3s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40 m/s = 1020 m ≈ 1,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1,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362320" y="3276720"/>
                <a:ext cx="80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uto kiihdy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pys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hdykses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nopeuteen 100 km/h. Aikaa kului 11,8 s. Laske auton kiihtyvy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100 km/h : 3,6 ≈ 27,8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2,35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676520" y="3048120"/>
                <a:ext cx="4857480" cy="24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158480" y="228600"/>
            <a:ext cx="728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KIIHTYVÄ JA HIDASTUVA LIIK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KUVAAJASS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9" name="Group 35"/>
          <p:cNvGrpSpPr/>
          <p:nvPr/>
        </p:nvGrpSpPr>
        <p:grpSpPr>
          <a:xfrm>
            <a:off x="984240" y="4925880"/>
            <a:ext cx="6251400" cy="1651680"/>
            <a:chOff x="984240" y="4925880"/>
            <a:chExt cx="6251400" cy="1651680"/>
          </a:xfrm>
        </p:grpSpPr>
        <p:sp>
          <p:nvSpPr>
            <p:cNvPr id="360" name="Text Box 26"/>
            <p:cNvSpPr/>
            <p:nvPr/>
          </p:nvSpPr>
          <p:spPr>
            <a:xfrm>
              <a:off x="984240" y="4925880"/>
              <a:ext cx="60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a: tasaisesti kiihtyvä liike, 1 m/s </a:t>
              </a:r>
              <a:r>
                <a:rPr b="0" lang="fi-FI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 4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Text Box 27"/>
            <p:cNvSpPr/>
            <p:nvPr/>
          </p:nvSpPr>
          <p:spPr>
            <a:xfrm>
              <a:off x="988560" y="527904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b: tasainen liike, nopeus on 4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Text Box 28"/>
            <p:cNvSpPr/>
            <p:nvPr/>
          </p:nvSpPr>
          <p:spPr>
            <a:xfrm>
              <a:off x="984960" y="5632920"/>
              <a:ext cx="62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c: tasaisesti hidastuva liike, 4 m/s </a:t>
              </a:r>
              <a:r>
                <a:rPr b="0" lang="fi-FI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 2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Text Box 29"/>
            <p:cNvSpPr/>
            <p:nvPr/>
          </p:nvSpPr>
          <p:spPr>
            <a:xfrm>
              <a:off x="989280" y="6057000"/>
              <a:ext cx="448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d: tasainen liike, nopeus 2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4" name="Group 34"/>
          <p:cNvGrpSpPr/>
          <p:nvPr/>
        </p:nvGrpSpPr>
        <p:grpSpPr>
          <a:xfrm>
            <a:off x="1068480" y="1676520"/>
            <a:ext cx="4756680" cy="3339000"/>
            <a:chOff x="1068480" y="1676520"/>
            <a:chExt cx="4756680" cy="3339000"/>
          </a:xfrm>
        </p:grpSpPr>
        <p:sp>
          <p:nvSpPr>
            <p:cNvPr id="365" name="Text Box 5"/>
            <p:cNvSpPr/>
            <p:nvPr/>
          </p:nvSpPr>
          <p:spPr>
            <a:xfrm>
              <a:off x="3516480" y="4434120"/>
              <a:ext cx="163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aika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s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Text Box 16"/>
            <p:cNvSpPr/>
            <p:nvPr/>
          </p:nvSpPr>
          <p:spPr>
            <a:xfrm>
              <a:off x="1068480" y="351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Text Box 17"/>
            <p:cNvSpPr/>
            <p:nvPr/>
          </p:nvSpPr>
          <p:spPr>
            <a:xfrm>
              <a:off x="1068480" y="234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31"/>
            <p:cNvSpPr/>
            <p:nvPr/>
          </p:nvSpPr>
          <p:spPr>
            <a:xfrm>
              <a:off x="1068480" y="314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9" name="Group 33"/>
            <p:cNvGrpSpPr/>
            <p:nvPr/>
          </p:nvGrpSpPr>
          <p:grpSpPr>
            <a:xfrm>
              <a:off x="1126440" y="1676520"/>
              <a:ext cx="4698720" cy="2969280"/>
              <a:chOff x="1126440" y="1676520"/>
              <a:chExt cx="4698720" cy="2969280"/>
            </a:xfrm>
          </p:grpSpPr>
          <p:sp>
            <p:nvSpPr>
              <p:cNvPr id="370" name="Line 3"/>
              <p:cNvSpPr/>
              <p:nvPr/>
            </p:nvSpPr>
            <p:spPr>
              <a:xfrm>
                <a:off x="1495080" y="4065120"/>
                <a:ext cx="410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Line 4"/>
              <p:cNvSpPr/>
              <p:nvPr/>
            </p:nvSpPr>
            <p:spPr>
              <a:xfrm flipV="1">
                <a:off x="1495080" y="2166120"/>
                <a:ext cx="0" cy="1898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Text Box 6"/>
              <p:cNvSpPr/>
              <p:nvPr/>
            </p:nvSpPr>
            <p:spPr>
              <a:xfrm>
                <a:off x="1126440" y="1676520"/>
                <a:ext cx="2605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nopeus </a:t>
                </a:r>
                <a:r>
                  <a:rPr b="1" lang="fi-FI" sz="3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 (m/s)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Line 7"/>
              <p:cNvSpPr/>
              <p:nvPr/>
            </p:nvSpPr>
            <p:spPr>
              <a:xfrm flipV="1">
                <a:off x="1495080" y="2534040"/>
                <a:ext cx="918720" cy="122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Line 8"/>
              <p:cNvSpPr/>
              <p:nvPr/>
            </p:nvSpPr>
            <p:spPr>
              <a:xfrm>
                <a:off x="2414160" y="2534040"/>
                <a:ext cx="980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Line 9"/>
              <p:cNvSpPr/>
              <p:nvPr/>
            </p:nvSpPr>
            <p:spPr>
              <a:xfrm>
                <a:off x="3394440" y="2534040"/>
                <a:ext cx="1225080" cy="85716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Line 10"/>
              <p:cNvSpPr/>
              <p:nvPr/>
            </p:nvSpPr>
            <p:spPr>
              <a:xfrm>
                <a:off x="4619520" y="3391200"/>
                <a:ext cx="91872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>
                <a:off x="2414160" y="2534040"/>
                <a:ext cx="0" cy="153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3394440" y="2534040"/>
                <a:ext cx="0" cy="153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4619520" y="3391200"/>
                <a:ext cx="0" cy="67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5538600" y="3391200"/>
                <a:ext cx="0" cy="67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Line 15"/>
              <p:cNvSpPr/>
              <p:nvPr/>
            </p:nvSpPr>
            <p:spPr>
              <a:xfrm flipH="1">
                <a:off x="1495080" y="2534040"/>
                <a:ext cx="91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Text Box 18"/>
              <p:cNvSpPr/>
              <p:nvPr/>
            </p:nvSpPr>
            <p:spPr>
              <a:xfrm>
                <a:off x="2280600" y="411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Text Box 19"/>
              <p:cNvSpPr/>
              <p:nvPr/>
            </p:nvSpPr>
            <p:spPr>
              <a:xfrm>
                <a:off x="3321720" y="405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Text Box 20"/>
              <p:cNvSpPr/>
              <p:nvPr/>
            </p:nvSpPr>
            <p:spPr>
              <a:xfrm>
                <a:off x="4485600" y="411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Text Box 21"/>
              <p:cNvSpPr/>
              <p:nvPr/>
            </p:nvSpPr>
            <p:spPr>
              <a:xfrm>
                <a:off x="5466240" y="405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Text Box 22"/>
              <p:cNvSpPr/>
              <p:nvPr/>
            </p:nvSpPr>
            <p:spPr>
              <a:xfrm>
                <a:off x="1668600" y="2710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Text Box 23"/>
              <p:cNvSpPr/>
              <p:nvPr/>
            </p:nvSpPr>
            <p:spPr>
              <a:xfrm>
                <a:off x="2771280" y="2097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4056840" y="25876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4975920" y="2893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Line 30"/>
              <p:cNvSpPr/>
              <p:nvPr/>
            </p:nvSpPr>
            <p:spPr>
              <a:xfrm flipH="1">
                <a:off x="1494720" y="3391200"/>
                <a:ext cx="312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Text Box 32"/>
              <p:cNvSpPr/>
              <p:nvPr/>
            </p:nvSpPr>
            <p:spPr>
              <a:xfrm>
                <a:off x="1374120" y="4125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1102680" y="457200"/>
            <a:ext cx="65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IIHTYVÄ JA HIDASTUVA LIIK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UVAAJAS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914040" y="47260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a: kiihtyvyys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850680" y="59659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: kiihtyvyys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765840" y="3753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3200400" y="4572000"/>
          <a:ext cx="4419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0"/>
                    <a:ext cx="4419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8"/>
          <p:cNvGraphicFramePr/>
          <p:nvPr/>
        </p:nvGraphicFramePr>
        <p:xfrm>
          <a:off x="3200400" y="5359320"/>
          <a:ext cx="432432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359320"/>
                    <a:ext cx="43243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0" name="Group 9"/>
          <p:cNvGrpSpPr/>
          <p:nvPr/>
        </p:nvGrpSpPr>
        <p:grpSpPr>
          <a:xfrm>
            <a:off x="687240" y="1752480"/>
            <a:ext cx="3438720" cy="2742120"/>
            <a:chOff x="687240" y="1752480"/>
            <a:chExt cx="3438720" cy="2742120"/>
          </a:xfrm>
        </p:grpSpPr>
        <p:sp>
          <p:nvSpPr>
            <p:cNvPr id="401" name="Line 10"/>
            <p:cNvSpPr/>
            <p:nvPr/>
          </p:nvSpPr>
          <p:spPr>
            <a:xfrm>
              <a:off x="986040" y="3625920"/>
              <a:ext cx="287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 flipV="1">
              <a:off x="986040" y="2136960"/>
              <a:ext cx="0" cy="148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2401200" y="3913200"/>
              <a:ext cx="163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aika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s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725760" y="1752480"/>
              <a:ext cx="26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nopeus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m/s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986040" y="2424960"/>
              <a:ext cx="642960" cy="9604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1629360" y="2424960"/>
              <a:ext cx="68616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2315520" y="2424960"/>
              <a:ext cx="857520" cy="6724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17"/>
            <p:cNvSpPr/>
            <p:nvPr/>
          </p:nvSpPr>
          <p:spPr>
            <a:xfrm>
              <a:off x="3173040" y="3097440"/>
              <a:ext cx="64296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1629360" y="2424960"/>
              <a:ext cx="0" cy="120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2315520" y="2424960"/>
              <a:ext cx="0" cy="120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3173040" y="3097440"/>
              <a:ext cx="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3816360" y="3097440"/>
              <a:ext cx="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22"/>
            <p:cNvSpPr/>
            <p:nvPr/>
          </p:nvSpPr>
          <p:spPr>
            <a:xfrm flipH="1">
              <a:off x="986040" y="242496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687240" y="319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687240" y="227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35040" y="36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2263320" y="362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3079800" y="36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Text Box 28"/>
            <p:cNvSpPr/>
            <p:nvPr/>
          </p:nvSpPr>
          <p:spPr>
            <a:xfrm>
              <a:off x="3767040" y="362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1108080" y="2564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1877040" y="2082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Text Box 31"/>
            <p:cNvSpPr/>
            <p:nvPr/>
          </p:nvSpPr>
          <p:spPr>
            <a:xfrm>
              <a:off x="2779200" y="2467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32"/>
            <p:cNvSpPr/>
            <p:nvPr/>
          </p:nvSpPr>
          <p:spPr>
            <a:xfrm>
              <a:off x="3423600" y="2706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Line 33"/>
            <p:cNvSpPr/>
            <p:nvPr/>
          </p:nvSpPr>
          <p:spPr>
            <a:xfrm flipH="1">
              <a:off x="985680" y="3097440"/>
              <a:ext cx="2187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Text Box 34"/>
            <p:cNvSpPr/>
            <p:nvPr/>
          </p:nvSpPr>
          <p:spPr>
            <a:xfrm>
              <a:off x="687240" y="2905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Text Box 35"/>
            <p:cNvSpPr/>
            <p:nvPr/>
          </p:nvSpPr>
          <p:spPr>
            <a:xfrm>
              <a:off x="903240" y="3674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Kiihtdytysautokisassa on dragsterilla saavutettu parhaimmillaan 3,72 sekunnissa nopeus 631,6 km/h. 1950-luvulla saavutettiin rakettimoottorilla varustetulla kelkalla 0,04 sekunnissa nopeus 116,6 km/h. Kummassa tapauksessa kiihtyvyys oli suurempi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9" name="Object 4"/>
          <p:cNvGraphicFramePr/>
          <p:nvPr/>
        </p:nvGraphicFramePr>
        <p:xfrm>
          <a:off x="1763640" y="3284640"/>
          <a:ext cx="388800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284640"/>
                    <a:ext cx="388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Saalistavan kalkkaro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rmeen p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ystyy saavuttamaan kiihtyvyyden 50 m/s</a:t>
            </a:r>
            <a:r>
              <a:rPr b="0" lang="fi-FI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rmeen iskies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iinni saaliiseensa. Kuinka nopeasti auto saavuttaisi samalla kiihtyvyydell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nopeuden 50 km/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Object 4"/>
          <p:cNvGraphicFramePr/>
          <p:nvPr/>
        </p:nvGraphicFramePr>
        <p:xfrm>
          <a:off x="755640" y="3429000"/>
          <a:ext cx="8064360" cy="26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29000"/>
                    <a:ext cx="806436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heinen kuvaaja esi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kerrostalon hissin liike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hissin kulkiessa yh.den kerrosv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lin. 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hissin kiihtyvyys niin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ikav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lein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, jolloin hissin nopeus muuttu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755640" y="2997360"/>
          <a:ext cx="4896000" cy="35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489600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 Box 5"/>
          <p:cNvSpPr/>
          <p:nvPr/>
        </p:nvSpPr>
        <p:spPr>
          <a:xfrm>
            <a:off x="1693080" y="509580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556720" y="401652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4646160" y="415908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6135840" y="3079800"/>
            <a:ext cx="2396880" cy="2439720"/>
          </a:xfrm>
          <a:prstGeom prst="rect">
            <a:avLst/>
          </a:prstGeom>
          <a:noFill/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1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1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0,50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3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-1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Putouskiihtyvyy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aapallon pinnalla putoavan kappaleen nopeus kasvaa joka sekunti noin 10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utouskiihtyvyys g on siis noin 10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uom! Ei riipu kappaleen massasta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arkemmi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g = 9,8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Tiili lähtee putoamaan tornitalon huipulta ja osuu maahan 5,0 s:n kuluttua. Millä nopeudella tiili osuu maaha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 = 5s · 9,8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≈ 49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49 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1600200" y="3505320"/>
            <a:ext cx="2286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 ja mat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uinka voidaan laskea tasaisesti kiihty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kappaleen tietty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aikana kulkema matk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ava perustellaan 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hiopetuksess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1905120" y="3581280"/>
                <a:ext cx="1809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9" name="Text Box 6"/>
          <p:cNvSpPr/>
          <p:nvPr/>
        </p:nvSpPr>
        <p:spPr>
          <a:xfrm>
            <a:off x="4572000" y="358128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 = mat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 = kiihtyvy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a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-359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vi pudotetaan 23 m korkean kerrostalon katolta. Laske putoamiseen kuluva aika. Mill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nopeudella kivi iskeytyy maah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Rat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utoamisaika 2,2 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suu maahan nopeudella 22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4"/>
              <p:cNvSpPr txBox="1"/>
              <p:nvPr/>
            </p:nvSpPr>
            <p:spPr>
              <a:xfrm>
                <a:off x="2971800" y="2666880"/>
                <a:ext cx="4654440" cy="31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josta voidaan ratkaista 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s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rad>
                        <m:r>
                          <m:t xml:space="preserve">≈</m:t>
                        </m:r>
                        <m:r>
                          <m:t xml:space="preserve">2,2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josta saadaan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v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,81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,2</m:t>
                        </m:r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Auto kiihdy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9,8 sekuntia kiihtyvyydell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2,4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. Auton alkunopeus on 20 km/h. Laske auton loppunopeus ja kiihdytyksen aikana kulkema mat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v = a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Δ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alk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alk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t =20:3,6 m/s + 2,4 m/s</a:t>
            </a:r>
            <a:r>
              <a:rPr b="0" lang="fi-FI" sz="18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9,81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= 29,07555... m/s ≈ 29 m/s ≈ 105 km/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olmi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Lisäksi ”suorakaide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loppunopeus 105 km/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uljettu matka 169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2535120" y="4286160"/>
                <a:ext cx="4799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,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9,8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4249800" y="4948200"/>
                <a:ext cx="3728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,8</m:t>
                    </m:r>
                    <m:r>
                      <m:t xml:space="preserve">s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oks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uinka muutetaan km/h </a:t>
            </a:r>
            <a:r>
              <a:rPr b="0" lang="fi-FI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/s ja p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vasto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m/h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/s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jaetaan 3,6: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/s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m/h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errotaan 3,6: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erustellaan 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nsim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600200" y="4724280"/>
                <a:ext cx="5105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 liikkeen muutoksen aiheutta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ikkeen muutokset selite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fysiikassa kappaleiden 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s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vuorovaikutuksi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Voima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uvaa 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vuorovaikutuksen suuruut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ewtonin I laki: Kappale jatkaa liike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suoraviivaisesti muuttumattomalla nopeudella tai pysyy levossa, jos siihen vaikuttavien voimien summa = 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 on vektorisu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ektorin pituus ilmoittaa voiman suuruuden, nuolen 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ki voiman suunn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Voimakuvio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: Tutkittava kappale irroitetaan ymp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i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. Ainoastaan tutkittavaan kappaleeseen vaikuttavat voimat piirre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yvi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80640" y="8377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kuv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462" name="Group 24"/>
          <p:cNvGrpSpPr/>
          <p:nvPr/>
        </p:nvGrpSpPr>
        <p:grpSpPr>
          <a:xfrm>
            <a:off x="1143000" y="3200400"/>
            <a:ext cx="3048120" cy="2819520"/>
            <a:chOff x="1143000" y="3200400"/>
            <a:chExt cx="3048120" cy="2819520"/>
          </a:xfrm>
        </p:grpSpPr>
        <p:sp>
          <p:nvSpPr>
            <p:cNvPr id="463" name="Line 4"/>
            <p:cNvSpPr/>
            <p:nvPr/>
          </p:nvSpPr>
          <p:spPr>
            <a:xfrm>
              <a:off x="1143000" y="4114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3809880" y="41148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2057400" y="3276720"/>
              <a:ext cx="1219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 flipV="1">
              <a:off x="3809880" y="3962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Oval 8"/>
            <p:cNvSpPr/>
            <p:nvPr/>
          </p:nvSpPr>
          <p:spPr>
            <a:xfrm>
              <a:off x="3828960" y="3797280"/>
              <a:ext cx="304920" cy="30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327672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411480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4038480" y="5029200"/>
              <a:ext cx="152640" cy="30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 flipV="1">
              <a:off x="2438280" y="35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 flipV="1">
              <a:off x="2590920" y="4114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243828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2541600" y="3720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2582280" y="41212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266688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 flipH="1">
              <a:off x="1752120" y="39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Text Box 19"/>
            <p:cNvSpPr/>
            <p:nvPr/>
          </p:nvSpPr>
          <p:spPr>
            <a:xfrm>
              <a:off x="1674000" y="3435480"/>
              <a:ext cx="39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fi-FI" sz="2000" spc="-1" strike="noStrike" baseline="-25000">
                  <a:solidFill>
                    <a:srgbClr val="000000"/>
                  </a:solidFill>
                  <a:latin typeface="Times New Roman"/>
                </a:rPr>
                <a:t>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749600" y="344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3276720" y="3581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Text Box 22"/>
            <p:cNvSpPr/>
            <p:nvPr/>
          </p:nvSpPr>
          <p:spPr>
            <a:xfrm>
              <a:off x="3505320" y="32004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3581280" y="320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25"/>
          <p:cNvSpPr/>
          <p:nvPr/>
        </p:nvSpPr>
        <p:spPr>
          <a:xfrm>
            <a:off x="4959720" y="1981080"/>
            <a:ext cx="3318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= Kitkavo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Voima, jolla 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y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e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laatikk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= Alustan tukivo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G = Painovo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26"/>
          <p:cNvSpPr/>
          <p:nvPr/>
        </p:nvSpPr>
        <p:spPr>
          <a:xfrm>
            <a:off x="4876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27"/>
          <p:cNvSpPr/>
          <p:nvPr/>
        </p:nvSpPr>
        <p:spPr>
          <a:xfrm>
            <a:off x="4876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Line 28"/>
          <p:cNvSpPr/>
          <p:nvPr/>
        </p:nvSpPr>
        <p:spPr>
          <a:xfrm>
            <a:off x="48769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29"/>
          <p:cNvSpPr/>
          <p:nvPr/>
        </p:nvSpPr>
        <p:spPr>
          <a:xfrm>
            <a:off x="48769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4952880" y="4191120"/>
            <a:ext cx="3505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Nyt N = -G, joten kappale ei liiku yl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s- ei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alasp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ja F ovat vastakkaissuuntaiset, mutta F on vektoria F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idempi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laatikko liikkuu 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yden suunta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31"/>
          <p:cNvSpPr/>
          <p:nvPr/>
        </p:nvSpPr>
        <p:spPr>
          <a:xfrm>
            <a:off x="5600880" y="4230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Line 32"/>
          <p:cNvSpPr/>
          <p:nvPr/>
        </p:nvSpPr>
        <p:spPr>
          <a:xfrm>
            <a:off x="6197760" y="4241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33"/>
          <p:cNvSpPr/>
          <p:nvPr/>
        </p:nvSpPr>
        <p:spPr>
          <a:xfrm>
            <a:off x="5105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34"/>
          <p:cNvSpPr/>
          <p:nvPr/>
        </p:nvSpPr>
        <p:spPr>
          <a:xfrm>
            <a:off x="66294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35"/>
          <p:cNvSpPr/>
          <p:nvPr/>
        </p:nvSpPr>
        <p:spPr>
          <a:xfrm>
            <a:off x="50292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36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Dynamiikan peruslak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Newtonin II laki eli Dynamiikan peruslaki: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appaleeseen vaikuttava ulkoinen voima F antaa kappaleelle, jonka massa on m, kiihtyvyyden 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 = m </a:t>
            </a:r>
            <a:r>
              <a:rPr b="0" lang="fi-FI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oiman 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: [F] = [m]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[a] = kg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= N (newt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13716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5"/>
          <p:cNvSpPr/>
          <p:nvPr/>
        </p:nvSpPr>
        <p:spPr>
          <a:xfrm>
            <a:off x="37339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6"/>
          <p:cNvSpPr/>
          <p:nvPr/>
        </p:nvSpPr>
        <p:spPr>
          <a:xfrm>
            <a:off x="4567320" y="398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2878200" y="3924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Auton kiihtyvyys on 2,4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ja massa 1500kg. Kuinka suuri kokonaisvoima autoon vaikutta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atk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=1500k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4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3600N=3,6k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 kappaleeseen vaikuttavan kokonaisvoiman suuruus ja kappaleen saama kiihtyvy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7,2 N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,2 N = 4,0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2,7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1371600" y="2819520"/>
            <a:ext cx="1905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17524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m=1,5k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3276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7"/>
          <p:cNvSpPr/>
          <p:nvPr/>
        </p:nvSpPr>
        <p:spPr>
          <a:xfrm flipH="1">
            <a:off x="838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35812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7,2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68580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3,2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10"/>
              <p:cNvSpPr txBox="1"/>
              <p:nvPr/>
            </p:nvSpPr>
            <p:spPr>
              <a:xfrm>
                <a:off x="1295280" y="4648320"/>
                <a:ext cx="5639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jost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,0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1,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,7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 kappaleeseen vaikuttavan kokonaisvoiman suuruus ja kappaleen saama kiihtyvy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8,8 N+ 6,9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6,1 N = 9,6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3,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1371600" y="2819520"/>
            <a:ext cx="1905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7524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m=3,1k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3276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7"/>
          <p:cNvSpPr/>
          <p:nvPr/>
        </p:nvSpPr>
        <p:spPr>
          <a:xfrm flipH="1">
            <a:off x="838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35812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8,8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8580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6,1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0"/>
              <p:cNvSpPr txBox="1"/>
              <p:nvPr/>
            </p:nvSpPr>
            <p:spPr>
              <a:xfrm>
                <a:off x="1371600" y="4648320"/>
                <a:ext cx="5554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jost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6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,1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3,1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Line 11"/>
          <p:cNvSpPr/>
          <p:nvPr/>
        </p:nvSpPr>
        <p:spPr>
          <a:xfrm flipH="1">
            <a:off x="327636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3505320" y="3352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6,9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ja 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lij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yhteenlaskettu massa oli 105kg. Kuinka suuri 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vaikuttavan kokonaisvoiman on oltava, jotta se antaisi 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e kiihtyvyyden 3,2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F = m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a = 105 kg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,2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=336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≈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340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40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"/>
          <p:cNvSpPr/>
          <p:nvPr/>
        </p:nvSpPr>
        <p:spPr>
          <a:xfrm>
            <a:off x="2743200" y="5410080"/>
            <a:ext cx="228600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Painovo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ppaleet putoavat maahan, koska maa ve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ni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uoleen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yhji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utoavaan kappaleeseen ei vaikuttaa ainoastaan maan vetovoima eli kappaleeseen vaikuttava painovoima = kappaleen paino: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G = m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aske oma painos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G=mg=50k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,81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490,5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uom!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ssa ≠ Paino, vaikka arkikie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 usein sotketaankin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oks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907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Perustelu muutokselle m/s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m/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Muunnettaessa isommasta yksik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st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pienemp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n </a:t>
            </a:r>
            <a:r>
              <a:rPr b="0" lang="fi-FI" sz="2800" spc="-1" strike="noStrike">
                <a:solidFill>
                  <a:srgbClr val="9a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jaeta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Pienemm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st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isompaan </a:t>
            </a:r>
            <a:r>
              <a:rPr b="0" lang="fi-FI" sz="2800" spc="-1" strike="noStrike">
                <a:solidFill>
                  <a:srgbClr val="9a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kerrota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332000" y="2708280"/>
          <a:ext cx="619272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192720" cy="144612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iirr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suoraan maata kohti putoavaan palloon vaikuttavat voimat ja kokonaisvoima, k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lmanvastusta ei oteta huomio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lmanvastus on merk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aske pallon kiihtyvyys, kun pallon massa on 5,6kg ja ilmanvastus on 1/10 pallon painos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3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at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-487440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uva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400" spc="-1" strike="noStrike">
                <a:solidFill>
                  <a:srgbClr val="9a0000"/>
                </a:solidFill>
                <a:latin typeface="Verdana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=m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 = 5,6 kg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9,81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54,936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1/10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54,936 N = 5,4936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G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54,936 N - 5,4936 N = 49,4424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m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, j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8,8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1371600" y="5181480"/>
                <a:ext cx="4206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424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5,6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,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Oval 5"/>
          <p:cNvSpPr/>
          <p:nvPr/>
        </p:nvSpPr>
        <p:spPr>
          <a:xfrm>
            <a:off x="2666880" y="2133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28954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3140280" y="2666880"/>
            <a:ext cx="102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Oval 8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64008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6468480" y="25210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11"/>
          <p:cNvSpPr/>
          <p:nvPr/>
        </p:nvSpPr>
        <p:spPr>
          <a:xfrm flipV="1">
            <a:off x="6248520" y="251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5862960" y="2419200"/>
            <a:ext cx="31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7467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5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6"/>
          <p:cNvSpPr/>
          <p:nvPr/>
        </p:nvSpPr>
        <p:spPr>
          <a:xfrm>
            <a:off x="81532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7153200" y="21906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7768080" y="2647800"/>
            <a:ext cx="31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8247960" y="2114640"/>
            <a:ext cx="48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k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20"/>
          <p:cNvSpPr/>
          <p:nvPr/>
        </p:nvSpPr>
        <p:spPr>
          <a:xfrm>
            <a:off x="3124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21"/>
          <p:cNvSpPr/>
          <p:nvPr/>
        </p:nvSpPr>
        <p:spPr>
          <a:xfrm>
            <a:off x="655308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22"/>
          <p:cNvSpPr/>
          <p:nvPr/>
        </p:nvSpPr>
        <p:spPr>
          <a:xfrm>
            <a:off x="59436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23"/>
          <p:cNvSpPr/>
          <p:nvPr/>
        </p:nvSpPr>
        <p:spPr>
          <a:xfrm>
            <a:off x="3962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Line 24"/>
          <p:cNvSpPr/>
          <p:nvPr/>
        </p:nvSpPr>
        <p:spPr>
          <a:xfrm>
            <a:off x="723888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Line 25"/>
          <p:cNvSpPr/>
          <p:nvPr/>
        </p:nvSpPr>
        <p:spPr>
          <a:xfrm>
            <a:off x="7848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26"/>
          <p:cNvSpPr/>
          <p:nvPr/>
        </p:nvSpPr>
        <p:spPr>
          <a:xfrm>
            <a:off x="830592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uinka suuri on narun tukivoima, kun kattoon kiinnitetyss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arussa riippuu kyntti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ruunu, jonka massa on 5,6 k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Group 48"/>
          <p:cNvGrpSpPr/>
          <p:nvPr/>
        </p:nvGrpSpPr>
        <p:grpSpPr>
          <a:xfrm>
            <a:off x="1039680" y="3200400"/>
            <a:ext cx="3227400" cy="2438280"/>
            <a:chOff x="1039680" y="3200400"/>
            <a:chExt cx="3227400" cy="2438280"/>
          </a:xfrm>
        </p:grpSpPr>
        <p:sp>
          <p:nvSpPr>
            <p:cNvPr id="559" name="Line 4"/>
            <p:cNvSpPr/>
            <p:nvPr/>
          </p:nvSpPr>
          <p:spPr>
            <a:xfrm>
              <a:off x="1143000" y="33526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Line 5"/>
            <p:cNvSpPr/>
            <p:nvPr/>
          </p:nvSpPr>
          <p:spPr>
            <a:xfrm>
              <a:off x="25909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Oval 6"/>
            <p:cNvSpPr/>
            <p:nvPr/>
          </p:nvSpPr>
          <p:spPr>
            <a:xfrm>
              <a:off x="2514600" y="3809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Line 7"/>
            <p:cNvSpPr/>
            <p:nvPr/>
          </p:nvSpPr>
          <p:spPr>
            <a:xfrm>
              <a:off x="2590920" y="39625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Freeform 8"/>
            <p:cNvSpPr/>
            <p:nvPr/>
          </p:nvSpPr>
          <p:spPr>
            <a:xfrm>
              <a:off x="2590920" y="4114800"/>
              <a:ext cx="1485720" cy="62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Freeform 9"/>
            <p:cNvSpPr/>
            <p:nvPr/>
          </p:nvSpPr>
          <p:spPr>
            <a:xfrm flipH="1">
              <a:off x="1143000" y="4114800"/>
              <a:ext cx="1486080" cy="62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>
              <a:off x="1066680" y="39625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1752480" y="44197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>
              <a:off x="3276720" y="44197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AutoShape 13"/>
            <p:cNvSpPr/>
            <p:nvPr/>
          </p:nvSpPr>
          <p:spPr>
            <a:xfrm>
              <a:off x="3886200" y="39625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Rectangle 14"/>
            <p:cNvSpPr/>
            <p:nvPr/>
          </p:nvSpPr>
          <p:spPr>
            <a:xfrm>
              <a:off x="1143000" y="37339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Rectangle 15"/>
            <p:cNvSpPr/>
            <p:nvPr/>
          </p:nvSpPr>
          <p:spPr>
            <a:xfrm>
              <a:off x="3352680" y="41911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Rectangle 16"/>
            <p:cNvSpPr/>
            <p:nvPr/>
          </p:nvSpPr>
          <p:spPr>
            <a:xfrm>
              <a:off x="1828800" y="41911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Rectangle 17"/>
            <p:cNvSpPr/>
            <p:nvPr/>
          </p:nvSpPr>
          <p:spPr>
            <a:xfrm>
              <a:off x="3962520" y="3733920"/>
              <a:ext cx="75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18"/>
            <p:cNvSpPr/>
            <p:nvPr/>
          </p:nvSpPr>
          <p:spPr>
            <a:xfrm>
              <a:off x="1039680" y="3517920"/>
              <a:ext cx="304920" cy="289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19"/>
            <p:cNvSpPr/>
            <p:nvPr/>
          </p:nvSpPr>
          <p:spPr>
            <a:xfrm>
              <a:off x="1727280" y="3962520"/>
              <a:ext cx="304560" cy="2887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20"/>
            <p:cNvSpPr/>
            <p:nvPr/>
          </p:nvSpPr>
          <p:spPr>
            <a:xfrm>
              <a:off x="3249720" y="3962520"/>
              <a:ext cx="304560" cy="2887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AutoShape 21"/>
            <p:cNvSpPr/>
            <p:nvPr/>
          </p:nvSpPr>
          <p:spPr>
            <a:xfrm>
              <a:off x="3836880" y="3505320"/>
              <a:ext cx="304920" cy="2887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 flipH="1">
              <a:off x="1218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 flipH="1">
              <a:off x="14475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Line 24"/>
            <p:cNvSpPr/>
            <p:nvPr/>
          </p:nvSpPr>
          <p:spPr>
            <a:xfrm flipH="1">
              <a:off x="16002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Line 25"/>
            <p:cNvSpPr/>
            <p:nvPr/>
          </p:nvSpPr>
          <p:spPr>
            <a:xfrm flipH="1">
              <a:off x="17524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Line 26"/>
            <p:cNvSpPr/>
            <p:nvPr/>
          </p:nvSpPr>
          <p:spPr>
            <a:xfrm flipH="1">
              <a:off x="19047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 flipH="1">
              <a:off x="20574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 flipH="1">
              <a:off x="22096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Line 29"/>
            <p:cNvSpPr/>
            <p:nvPr/>
          </p:nvSpPr>
          <p:spPr>
            <a:xfrm flipH="1">
              <a:off x="2361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Line 30"/>
            <p:cNvSpPr/>
            <p:nvPr/>
          </p:nvSpPr>
          <p:spPr>
            <a:xfrm flipH="1">
              <a:off x="25146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Line 31"/>
            <p:cNvSpPr/>
            <p:nvPr/>
          </p:nvSpPr>
          <p:spPr>
            <a:xfrm flipH="1">
              <a:off x="26668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Line 32"/>
            <p:cNvSpPr/>
            <p:nvPr/>
          </p:nvSpPr>
          <p:spPr>
            <a:xfrm flipH="1">
              <a:off x="28191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 flipH="1">
              <a:off x="29718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Line 34"/>
            <p:cNvSpPr/>
            <p:nvPr/>
          </p:nvSpPr>
          <p:spPr>
            <a:xfrm flipH="1">
              <a:off x="31240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33526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 flipH="1">
              <a:off x="3504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 flipH="1">
              <a:off x="36576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 flipH="1">
              <a:off x="38098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Line 39"/>
            <p:cNvSpPr/>
            <p:nvPr/>
          </p:nvSpPr>
          <p:spPr>
            <a:xfrm flipH="1">
              <a:off x="39621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Line 40"/>
            <p:cNvSpPr/>
            <p:nvPr/>
          </p:nvSpPr>
          <p:spPr>
            <a:xfrm flipV="1">
              <a:off x="289548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Text Box 41"/>
            <p:cNvSpPr/>
            <p:nvPr/>
          </p:nvSpPr>
          <p:spPr>
            <a:xfrm>
              <a:off x="2964960" y="35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V="1">
              <a:off x="2590920" y="4876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Text Box 43"/>
            <p:cNvSpPr/>
            <p:nvPr/>
          </p:nvSpPr>
          <p:spPr>
            <a:xfrm>
              <a:off x="2734920" y="49086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>
              <a:off x="304812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Line 45"/>
            <p:cNvSpPr/>
            <p:nvPr/>
          </p:nvSpPr>
          <p:spPr>
            <a:xfrm>
              <a:off x="279252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1" name="Text Box 46"/>
          <p:cNvSpPr/>
          <p:nvPr/>
        </p:nvSpPr>
        <p:spPr>
          <a:xfrm>
            <a:off x="4648320" y="3276720"/>
            <a:ext cx="41907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oska kruunu on levossa: T + G = 0, joten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G = m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 = 5,6 kg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9,81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≈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55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47"/>
          <p:cNvSpPr/>
          <p:nvPr/>
        </p:nvSpPr>
        <p:spPr>
          <a:xfrm>
            <a:off x="7621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55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ekko, jonka massa on 0,15 kg, tulee kohti hy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nopeudella 12 m/s. Hy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laukaisee kiekon suoraan takaisin nopeudella 21 m/s. Maila koskettaa kiekkoa 0,040 s ajan. Kuinka suurella keski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isell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voimalla maila osuu kiekko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5" name="Object 4"/>
          <p:cNvGraphicFramePr/>
          <p:nvPr/>
        </p:nvGraphicFramePr>
        <p:xfrm>
          <a:off x="684360" y="3645000"/>
          <a:ext cx="784836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7848360" cy="2814480"/>
                  </a:xfrm>
                  <a:prstGeom prst="rect">
                    <a:avLst/>
                  </a:prstGeom>
                  <a:ln w="93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Autoilija ajaa nopeudella 60 km/h ja kuule yll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en autonsa moottorista ep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ily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olinaa. H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n yri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y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y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autonsa mahdollisimman nopeasti jarruttaen 7,8 kN:n voimalla. Auton massa on 1300 kg. Kuinka pian auto py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htyy? Kuinka pit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on jarrutusmatk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9" name="Object 4"/>
          <p:cNvGraphicFramePr/>
          <p:nvPr/>
        </p:nvGraphicFramePr>
        <p:xfrm>
          <a:off x="539640" y="3716280"/>
          <a:ext cx="860436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16280"/>
                    <a:ext cx="8604360" cy="2579760"/>
                  </a:xfrm>
                  <a:prstGeom prst="rect">
                    <a:avLst/>
                  </a:prstGeom>
                  <a:ln w="93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Ulkona tuulee nopeudella 8,0 m/s. Ilmoita tulos nopeuden yksik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8 m/s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,6 = 28,8 km/h ≈ 29 km/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ntilooppi pystyy juoksemaan nopeudella 90 km/h. Ilmoita antiloopin nopeus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90 km/h : 3,6 = 25 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250 km/h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69,4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540 km/h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50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500 m/s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5400 km/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340 m/s =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224 km/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737160" y="457200"/>
            <a:ext cx="49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TASAINEN LIIK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OORDINAATISTOS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940320" y="1716120"/>
            <a:ext cx="65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pysyy koko ajan sam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60080" y="243828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matka s (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726440" y="2438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opeus v (m/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Object 6"/>
          <p:cNvGraphicFramePr/>
          <p:nvPr/>
        </p:nvGraphicFramePr>
        <p:xfrm>
          <a:off x="1676520" y="5486400"/>
          <a:ext cx="59036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486400"/>
                    <a:ext cx="5903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" name="Group 7"/>
          <p:cNvGrpSpPr/>
          <p:nvPr/>
        </p:nvGrpSpPr>
        <p:grpSpPr>
          <a:xfrm>
            <a:off x="1219320" y="2971800"/>
            <a:ext cx="7467480" cy="2450880"/>
            <a:chOff x="1219320" y="2971800"/>
            <a:chExt cx="7467480" cy="2450880"/>
          </a:xfrm>
        </p:grpSpPr>
        <p:sp>
          <p:nvSpPr>
            <p:cNvPr id="237" name="Line 8"/>
            <p:cNvSpPr/>
            <p:nvPr/>
          </p:nvSpPr>
          <p:spPr>
            <a:xfrm>
              <a:off x="1219320" y="2971800"/>
              <a:ext cx="0" cy="182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219320" y="480024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5943600" y="2971800"/>
              <a:ext cx="0" cy="182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5943600" y="480024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Text Box 12"/>
            <p:cNvSpPr/>
            <p:nvPr/>
          </p:nvSpPr>
          <p:spPr>
            <a:xfrm>
              <a:off x="2744640" y="49021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Times New Roman"/>
                </a:rPr>
                <a:t>aika t (s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7164360" y="49021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Times New Roman"/>
                </a:rPr>
                <a:t>aika t (s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 flipV="1">
              <a:off x="1219320" y="3580920"/>
              <a:ext cx="2590920" cy="12186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Line 15"/>
            <p:cNvSpPr/>
            <p:nvPr/>
          </p:nvSpPr>
          <p:spPr>
            <a:xfrm>
              <a:off x="1981440" y="4419360"/>
              <a:ext cx="16761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V="1">
              <a:off x="3657600" y="3657240"/>
              <a:ext cx="0" cy="7617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Text Box 17"/>
            <p:cNvSpPr/>
            <p:nvPr/>
          </p:nvSpPr>
          <p:spPr>
            <a:xfrm>
              <a:off x="3719520" y="3647880"/>
              <a:ext cx="9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0 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Text Box 18"/>
            <p:cNvSpPr/>
            <p:nvPr/>
          </p:nvSpPr>
          <p:spPr>
            <a:xfrm>
              <a:off x="2440080" y="4267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,0 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>
              <a:off x="5943600" y="3581280"/>
              <a:ext cx="190512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20"/>
            <p:cNvSpPr/>
            <p:nvPr/>
          </p:nvSpPr>
          <p:spPr>
            <a:xfrm>
              <a:off x="5029560" y="320004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Oval 21"/>
            <p:cNvSpPr/>
            <p:nvPr/>
          </p:nvSpPr>
          <p:spPr>
            <a:xfrm>
              <a:off x="1936800" y="4335120"/>
              <a:ext cx="716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Oval 22"/>
            <p:cNvSpPr/>
            <p:nvPr/>
          </p:nvSpPr>
          <p:spPr>
            <a:xfrm>
              <a:off x="3665520" y="3543120"/>
              <a:ext cx="716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2590920" y="4724280"/>
            <a:ext cx="304776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eski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ike on harvemmin tasa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vaihtel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eskinopeus voidaan 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(t,s)-koordinaatistosta katsomalla tiety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aika 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uljettu mat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2819520" y="4724280"/>
                <a:ext cx="251460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Text Box 6"/>
          <p:cNvSpPr/>
          <p:nvPr/>
        </p:nvSpPr>
        <p:spPr>
          <a:xfrm>
            <a:off x="6084720" y="486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a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= muu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13:21Z</dcterms:created>
  <dc:creator>Anu</dc:creator>
  <dc:description/>
  <dc:language>en-US</dc:language>
  <cp:lastModifiedBy>trajan</cp:lastModifiedBy>
  <dcterms:modified xsi:type="dcterms:W3CDTF">2009-03-26T16:03:12Z</dcterms:modified>
  <cp:revision>58</cp:revision>
  <dc:subject/>
  <dc:title>Liike</dc:title>
</cp:coreProperties>
</file>